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785-3E0E-4739-8306-E6BE1D06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BB7-BBF9-4C66-81AF-D194B2EF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8EA-335F-4C66-85A2-3A5FAFD7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4C1-C95C-432F-BA05-D48C54E5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B75-5CBA-4094-9789-1C5FEF33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98E-2C8A-41B6-B0B5-596F69F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3D8-2E8D-48A0-9DEE-39BC0674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C29-80B4-42E0-8342-1883BF7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01A-91B7-4495-9C93-ACC6B61D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208-E444-4F40-ACBA-C737ED0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8F9-2642-4019-8921-AB0E64C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E3F-3DAB-420F-9248-06B4C4E1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02A8-F670-4442-8F4F-623A2351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6633"/>
                </a:solidFill>
                <a:latin typeface="Rockwell Extra Bold"/>
              </a:rPr>
              <a:t>Cowboy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44197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Unit 6*Week 4*Day 5 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j02352010000[1]"/>
          <p:cNvPicPr/>
          <p:nvPr/>
        </p:nvPicPr>
        <p:blipFill>
          <a:blip r:embed="rId1"/>
          <a:stretch/>
        </p:blipFill>
        <p:spPr>
          <a:xfrm>
            <a:off x="304920" y="1981080"/>
            <a:ext cx="4419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6633"/>
                </a:solidFill>
                <a:latin typeface="Arial"/>
              </a:rPr>
              <a:t>Peach is their fastest selling                         breakfast tea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2352030000[1]"/>
          <p:cNvPicPr/>
          <p:nvPr/>
        </p:nvPicPr>
        <p:blipFill>
          <a:blip r:embed="rId1"/>
          <a:stretch/>
        </p:blipFill>
        <p:spPr>
          <a:xfrm>
            <a:off x="228600" y="434340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The youngest of his three tireless daughters teaches readin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Cj02352030000[1]"/>
          <p:cNvPicPr/>
          <p:nvPr/>
        </p:nvPicPr>
        <p:blipFill>
          <a:blip r:embed="rId1"/>
          <a:stretch/>
        </p:blipFill>
        <p:spPr>
          <a:xfrm>
            <a:off x="990720" y="426708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Arial"/>
              </a:rPr>
              <a:t>I went running for half an hour and breathed in and out in the stillnes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2352030000[1]"/>
          <p:cNvPicPr/>
          <p:nvPr/>
        </p:nvPicPr>
        <p:blipFill>
          <a:blip r:embed="rId1"/>
          <a:stretch/>
        </p:blipFill>
        <p:spPr>
          <a:xfrm>
            <a:off x="2209680" y="434340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I’ve seen many feathers, but this is the prettiest eagle feather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Cj02352030000[1]"/>
          <p:cNvPicPr/>
          <p:nvPr/>
        </p:nvPicPr>
        <p:blipFill>
          <a:blip r:embed="rId1"/>
          <a:stretch/>
        </p:blipFill>
        <p:spPr>
          <a:xfrm>
            <a:off x="3200400" y="426708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Arial"/>
              </a:rPr>
              <a:t>Did you buy the gingerbread spread and peanuts for the fea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Cj02352030000[1]"/>
          <p:cNvPicPr/>
          <p:nvPr/>
        </p:nvPicPr>
        <p:blipFill>
          <a:blip r:embed="rId1"/>
          <a:stretch/>
        </p:blipFill>
        <p:spPr>
          <a:xfrm>
            <a:off x="4724280" y="434340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I like sitting alone in the meadow when the weather is cloudless and a bit warm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Cj02352030000[1]"/>
          <p:cNvPicPr/>
          <p:nvPr/>
        </p:nvPicPr>
        <p:blipFill>
          <a:blip r:embed="rId1"/>
          <a:stretch/>
        </p:blipFill>
        <p:spPr>
          <a:xfrm>
            <a:off x="5867280" y="458316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8:16:02Z</dcterms:created>
  <dc:creator>llefever</dc:creator>
  <dc:description/>
  <dc:language>en-US</dc:language>
  <cp:lastModifiedBy>teacher</cp:lastModifiedBy>
  <dcterms:modified xsi:type="dcterms:W3CDTF">2011-04-30T20:34:31Z</dcterms:modified>
  <cp:revision>3</cp:revision>
  <dc:subject/>
  <dc:title>Cowboy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9131174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powerpoints</vt:lpwstr>
  </property>
</Properties>
</file>